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18F-C73F-4F1F-976B-BC2733B5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409-4768-4AE5-AAB5-6CDD8E7A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FAC-EA47-4C89-978B-DAE4C0BE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7B8-E59D-4FAB-87AF-BF6B969B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27B0-A6CA-42F4-9E52-AD0F60D6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1979-9832-4BF7-A036-74E51E99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D316-DD43-4302-A48A-54964235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0938-6171-46D0-9F3B-9B542202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814E-6B94-4A5A-9EC2-026CBD85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F160-ABF1-4041-A190-D1EA7C04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3D30-0D7F-494C-9DE8-C81CD8A0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0C8-F9D5-4FF4-941E-45AA773B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CB08-A97D-4084-A893-DF4A0C4A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4FDE-A514-4864-AC11-3EEBCE56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98FE-4D9C-4A7D-B617-3481A1CC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D3C3-2679-48A1-8DCC-1D83CB6B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491B-C9C8-4243-A712-313492B9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218-9F8E-4941-B51D-158213D2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EBF-A73A-49F9-960B-7AAF9EB0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D84-2C0B-482A-937E-7BFD7FED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FE0-C232-42CC-BE1C-AF684775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F07-6AF3-4223-AE61-9603C0A6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C2E-3E1D-4C16-8622-BDEEDB3F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A64-5CE9-416F-A39E-A97380FC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3812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228600"/>
            <a:ext cx="328320" cy="474840"/>
          </a:xfrm>
          <a:prstGeom prst="rect">
            <a:avLst/>
          </a:prstGeom>
          <a:gradFill rotWithShape="0">
            <a:gsLst>
              <a:gs pos="0">
                <a:srgbClr val="fef1c0">
                  <a:alpha val="13333"/>
                </a:srgbClr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3808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3808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06632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69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559C-2B1A-47EE-B048-7215032ED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53280" y="6053040"/>
            <a:ext cx="99072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0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3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1c1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6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2C65-656A-4ECC-9244-C82DA997F424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69e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ata Directo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Gilbert, gilbertd@indiana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202248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ta Access Nee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le genome dat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Page scraping and bulk files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Internet search &amp; retrieval of all genome objects distributed among many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Simple, flexible client program mod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Efficient for high volume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jects; &gt;1 GB siz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ies of Genome Dat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ies are a necessary step for bio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road and shallow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ories feder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arrow and deep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-Data Acc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S, Sequence Retrieval System;  Entrez ;  AceDB; Genome relational databases (Ensembl, FlyBase, WormBase) ; IBM DiscoveryLink; BioDAS ; BioM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services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onto access tools for common query/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ure, efficient for high volumes, query distributed directories ; works well with bio-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ervic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messages over Web ; wide industry support , standards are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compon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1289160"/>
            <a:ext cx="853452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irectory Nee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existing techn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finding distribut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Efficient for mill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bjects, by the gigabyte and tera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Qu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d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across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ollabora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Sup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ing and new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bioinformatics data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lational dbs, object and XML dbs, SRS, Entrez, Ace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Simple 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mputable use of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,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common sch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escrib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Replicate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bjects among bioinformatics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Peer-to-peer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llaborativ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authentication and secu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rid Services Architechture (OG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ased; query support for XML-SQL and Xque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 project: http://www.ogsa-dai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weight Directory Access (L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system for distributed search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centric, optimized for efficient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, distributed and replicated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ciences ID (LSID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tandard for bio-object naming, with LDAP and WebService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y project web services reposi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test distributed access with LDAP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 backend for efficient search/retrieval from GenBank, SwissProt/TrEMBL, LocusLink, Medline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&amp; fetch 20,000 to 1.2 mill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AP is ~10x faster than Web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in progress for Fly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8183" t="11766" r="8183" b="11766"/>
          <a:stretch/>
        </p:blipFill>
        <p:spPr>
          <a:xfrm>
            <a:off x="304920" y="1152360"/>
            <a:ext cx="80769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irectory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2680" y="5105520"/>
            <a:ext cx="7352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ory test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ttp://iubio.bio.indiana.edu/biogrid/directori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28:33Z</dcterms:created>
  <dc:creator>don gilbert</dc:creator>
  <dc:description/>
  <dc:language>en-US</dc:language>
  <cp:lastModifiedBy>don gilbert</cp:lastModifiedBy>
  <dcterms:modified xsi:type="dcterms:W3CDTF">2003-05-04T18:56:14Z</dcterms:modified>
  <cp:revision>6</cp:revision>
  <dc:subject/>
  <dc:title>Genome Data Directories</dc:title>
</cp:coreProperties>
</file>